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E2D-A20C-4E53-A70F-BBC1EE13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CCF3-ADA2-45D6-95FF-43740CE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3C5-B574-4C5B-B866-3355715A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7C76-7872-4180-BBD4-4BEC8384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98C3-2601-452B-80CB-17BB3CBD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003-3957-4F8B-BDB9-4E8F42FC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72B-260A-410D-B24A-72D93AF8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C1C-2C06-4AD5-A65B-17CBBA65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6B9-F070-4CC8-9521-897C8144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80E-6FAB-4738-854F-448BE60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15D-AFC0-4D1B-994E-BF6DA4F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FC4-3040-4268-8C70-3802384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5966-F6D0-423E-A117-6ED7054EE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uman Feature/Physical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C:\Documents and Settings\Chris\Desktop\New Folder\st_clif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90920" y="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ysical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14600" y="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clif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C:\Documents and Settings\Chris\Desktop\New Folder\water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1447920" y="5335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295280" y="533520"/>
            <a:ext cx="723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mmm, Tricky…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last example, the tree, is a difficult one. Where did the tree come from? Who put it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n, is an environment, or place, that has not been altered or changed by humans. 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 has many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ysical featur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and not many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is an environment that has been changed or altered, or even created by human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human environm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has many human featur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environments human environments or physical environments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ok at the whole environment to decid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C:\Documents and Settings\Chris\Desktop\New Folder (2)\1304080426_c394a4e76d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C:\Documents and Settings\Chris\Desktop\New Folder (2)\aerial_ra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C:\Documents and Settings\Chris\Desktop\New Folder (2)\fa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Documents and Settings\Chris\Desktop\New Folder (2)\mono-lake-1-7234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HelveticaNeueLTStd-Lt"/>
              </a:rPr>
              <a:t>Physical features</a:t>
            </a: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 sh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natural objects such as mountains and rivers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HelveticaNeueLTStd-Lt"/>
              </a:rPr>
              <a:t>Human features</a:t>
            </a: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 are things that are built b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HelveticaNeueLTStd-Lt"/>
              </a:rPr>
              <a:t>humans such as bridges and roads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C:\Documents and Settings\Chris\Desktop\New Folder (2)\largest-swimming-pool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C:\Documents and Settings\Chris\Desktop\New Folder (2)\Zoo15.jpg"/>
          <p:cNvPicPr/>
          <p:nvPr/>
        </p:nvPicPr>
        <p:blipFill>
          <a:blip r:embed="rId1"/>
          <a:stretch/>
        </p:blipFill>
        <p:spPr>
          <a:xfrm>
            <a:off x="16765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C:\Documents and Settings\Chris\Desktop\New Folder (2)\swimmingpool[1]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human or physical fea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C:\Documents and Settings\Chris\Desktop\New Folder\1220_01_56---Newport-Harbor-Light-Lighthouse--Rhode-Island--USA_web.jpg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1676520" y="304920"/>
            <a:ext cx="54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Light Hou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52480" y="304920"/>
            <a:ext cx="533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-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C:\Documents and Settings\Chris\Desktop\New Folder\2034_10_11---Straight-Road--Route-66--Arizona_we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838080" y="2362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85800" y="22860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Roa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C:\Documents and Settings\Chris\Desktop\New Folder\fores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26668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hysical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52280" y="251460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t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C:\Documents and Settings\Chris\Desktop\New Folder\Gateshead-Millennium-Brid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04920" y="22860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90720" y="3049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bri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C:\Documents and Settings\Chris\Desktop\New Folder\PoliceSt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038480" y="30492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uman Fea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038480" y="380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Buil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C:\Documents and Settings\Chris\Desktop\New Folder\silbury-hill-hdr-cc-tag-350.jpg"/>
          <p:cNvPicPr/>
          <p:nvPr/>
        </p:nvPicPr>
        <p:blipFill>
          <a:blip r:embed="rId1"/>
          <a:stretch/>
        </p:blipFill>
        <p:spPr>
          <a:xfrm>
            <a:off x="1676520" y="0"/>
            <a:ext cx="57909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057400" y="3733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hysical Featu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hi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07:11:28Z</dcterms:created>
  <dc:creator>Chris</dc:creator>
  <dc:description/>
  <dc:language>en-US</dc:language>
  <cp:lastModifiedBy>Tarean Anthony</cp:lastModifiedBy>
  <dcterms:modified xsi:type="dcterms:W3CDTF">2011-10-07T19:34:59Z</dcterms:modified>
  <cp:revision>3</cp:revision>
  <dc:subject/>
  <dc:title>Human Feature/Physical Feature</dc:title>
</cp:coreProperties>
</file>